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316-AC11-41EC-B544-0B8644C2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837-EA84-40A0-8535-5C35D9C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C1A-2331-46AC-8198-D5075299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369-F9D1-49D1-9594-AE97D812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74F-042B-4C72-BE29-BE0A2CB4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703-FAF8-4B27-8F82-834A3171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D65-5C55-42B6-9315-E013F7B2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BB4-98F6-42B2-B86C-97B5AD0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D0D-85AB-412C-9483-2A4F46C0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6E7-5748-43E5-ADE3-D04D746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8C5-5F26-4938-879F-042755B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FB4-044B-4E28-8EA9-CC2C86D2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299-69FC-4643-87E9-C9C8C2F5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t. 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Use real or invented names to bring places al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help to make your setting more real and more belie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boy walked down a street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us nothing, b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Lugs O’Neill limped down Butcher’s Row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to catch our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54360" y="2119320"/>
            <a:ext cx="1835280" cy="114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nce you have built the setting you can bring in the characters. </a:t>
            </a:r>
            <a:r>
              <a:rPr b="0" i="1" lang="en-US" sz="4000" spc="-1" strike="noStrike">
                <a:solidFill>
                  <a:srgbClr val="ffff66"/>
                </a:solidFill>
                <a:latin typeface="Arial"/>
              </a:rPr>
              <a:t>Who is there and 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Have fun creating your story set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538280" cy="2560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6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ink about in your partner’s pap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writing led me to have some feelings for the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setting was clear and consistent with the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re was a clear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walking along a country road on a bright, warm, summer day. Continue the story from there. 1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Boulder"/>
              </a:rPr>
              <a:t>Story Setting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mprove your writing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1555920" cy="211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3059280" y="4797360"/>
            <a:ext cx="1755720" cy="155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6084720" y="4508640"/>
            <a:ext cx="273708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42380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You can start your story by thinking about the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SmartArt Placeholder 3078"/>
          <p:cNvGrpSpPr/>
          <p:nvPr/>
        </p:nvGrpSpPr>
        <p:grpSpPr>
          <a:xfrm>
            <a:off x="1174320" y="2540160"/>
            <a:ext cx="6723360" cy="2403360"/>
            <a:chOff x="1174320" y="2540160"/>
            <a:chExt cx="6723360" cy="240336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605200" y="2776320"/>
              <a:ext cx="197640" cy="2339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 rot="16200000">
              <a:off x="4436640" y="3944880"/>
              <a:ext cx="197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2"/>
            </p:cNvCxnSpPr>
            <p:nvPr/>
          </p:nvCxnSpPr>
          <p:spPr>
            <a:xfrm flipH="1" flipV="1" rot="5400000">
              <a:off x="3268800" y="2778480"/>
              <a:ext cx="197640" cy="2335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1"/>
            <p:cNvSpPr/>
            <p:nvPr/>
          </p:nvSpPr>
          <p:spPr>
            <a:xfrm>
              <a:off x="2585520" y="2540160"/>
              <a:ext cx="3898080" cy="1307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Where does your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story take plac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>
              <a:off x="117432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time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ay is i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351144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is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eather lik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584856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s it ins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r outsid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Manipulate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he reader with the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136836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441440" cy="1249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84360" y="3429000"/>
            <a:ext cx="8208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lace as well as the weather, time of day and season, to create a setting. After all, a walk along a lane on a summery afternoon creates one atmosphere but the same lane on a dark wintry night would feel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31669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detail to bring the setting alive - base this on sense im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What can be seen, heard, smelled, touched and ta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the reader is to enter your world, s/he needs to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ea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ou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s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me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7308720" y="1773360"/>
            <a:ext cx="1131840" cy="1468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2186280" cy="86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1935360" cy="19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4"/>
          <a:stretch/>
        </p:blipFill>
        <p:spPr>
          <a:xfrm>
            <a:off x="3995640" y="479736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5"/>
          <a:stretch/>
        </p:blipFill>
        <p:spPr>
          <a:xfrm>
            <a:off x="7088040" y="4869000"/>
            <a:ext cx="1805040" cy="160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0533 0.01 -0.008 0.015 -0.008 C 0.022 -0.008 0.029 -0.004 0.033 0.00267 C 0.05 0.02933 0.063 0.088 0.063 0.15733 L 0.063 0.15867 L 0.063 0.16 C 0.063 0.22933 0.05 0.28933 0.033 0.316 C 0.029 0.32133 0.022 0.32533 0.015 0.32533 C 0.01 0.32533 0.004 0.32267 0 0.31733 C -0.004 0.312 -0.006 0.30533 -0.006 0.29733 C -0.006 0.288 -0.003 0.28 0.002 0.27467 C 0.022 0.25067 0.066 0.23333 0.118 0.23333 L 0.119 0.23333 L 0.12 0.23333 C 0.172 0.23333 0.217 0.25067 0.237 0.27467 C 0.241 0.28 0.244 0.288 0.244 0.29733 C 0.244 0.30533 0.242 0.312 0.238 0.31733 C 0.234 0.32267 0.229 0.32533 0.223 0.32533 C 0.216 0.32533 0.21 0.32133 0.206 0.316 C 0.188 0.28933 0.175 0.22933 0.175 0.16 L 0.175 0.15867 L 0.175 0.15733 C 0.175 0.088 0.188 0.02933 0.206 0.00133 C 0.21 -0.004 0.216 -0.008 0.223 -0.008 C 0.229 -0.008 0.234 -0.00533 0.238 0 C 0.242 0.00533 0.244 0.01333 0.244 0.02 C 0.244 0.02933 0.241 0.03733 0.237 0.044 C 0.217 0.06667 0.172 0.084 0.12 0.084 C 0.12 0.084 0.12 0.084 0.119 0.084 L 0.118 0.084 C 0.066 0.084 0.022 0.06667 0.002 0.044 C -0.003 0.03733 -0.006 0.02933 -0.006 0.02 C -0.006 0.01333 -0.004 0.00533 0 0 Z">
                                      <p:cBhvr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ase settings on places that you know - plus some invented det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places where you have b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se your eyes and look at all the details around you.  What can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use your imagination to change the place.  Add some interesting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o you want details to make your setting se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anger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right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a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eac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range/imagin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Use the setting to creat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3527280" cy="218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you might use a frightening place such as an empty house - or you can take a very ordinary place and make it seem scary by making it seem unusual, dark and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99728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oulder"/>
              </a:rPr>
              <a:t>Remember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1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o not get bogged down in too much description or you will lose the pace of the narr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254560" y="2949480"/>
            <a:ext cx="2824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pat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 -0.00533 0.01 -0.008 0.015 -0.008 C 0.022 -0.008 0.029 -0.004 0.033 0.00267 C 0.05 0.02933 0.063 0.088 0.063 0.15733 L 0.063 0.15867 L 0.063 0.16 C 0.063 0.22933 0.05 0.28933 0.033 0.316 C 0.029 0.32133 0.022 0.32533 0.015 0.32533 C 0.01 0.32533 0.004 0.32267 0 0.31733 C -0.004 0.312 -0.006 0.30533 -0.006 0.29733 C -0.006 0.288 -0.003 0.28 0.002 0.27467 C 0.022 0.25067 0.066 0.23333 0.118 0.23333 L 0.119 0.23333 L 0.12 0.23333 C 0.172 0.23333 0.217 0.25067 0.237 0.27467 C 0.241 0.28 0.244 0.288 0.244 0.29733 C 0.244 0.30533 0.242 0.312 0.238 0.31733 C 0.234 0.32267 0.229 0.32533 0.223 0.32533 C 0.216 0.32533 0.21 0.32133 0.206 0.316 C 0.188 0.28933 0.175 0.22933 0.175 0.16 L 0.175 0.15867 L 0.175 0.15733 C 0.175 0.088 0.188 0.02933 0.206 0.00133 C 0.21 -0.004 0.216 -0.008 0.223 -0.008 C 0.229 -0.008 0.234 -0.00533 0.238 0 C 0.242 0.00533 0.244 0.01333 0.244 0.02 C 0.244 0.02933 0.241 0.03733 0.237 0.044 C 0.217 0.06667 0.172 0.084 0.12 0.084 C 0.12 0.084 0.12 0.084 0.119 0.084 L 0.118 0.084 C 0.066 0.084 0.022 0.06667 0.002 0.044 C -0.003 0.03733 -0.006 0.02933 -0.006 0.02 C -0.006 0.01333 -0.004 0.00533 0 0 Z">
                                      <p:cBhvr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5:51:09Z</dcterms:created>
  <dc:creator>debbie jones</dc:creator>
  <dc:description/>
  <dc:language>en-US</dc:language>
  <cp:lastModifiedBy>Angie McCall</cp:lastModifiedBy>
  <dcterms:modified xsi:type="dcterms:W3CDTF">2011-09-29T19:59:33Z</dcterms:modified>
  <cp:revision>22</cp:revision>
  <dc:subject/>
  <dc:title>Slide 1</dc:title>
</cp:coreProperties>
</file>